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8.png" ContentType="image/png"/>
  <Override PartName="/ppt/media/image16.wmf" ContentType="image/x-wmf"/>
  <Override PartName="/ppt/media/image13.png" ContentType="image/png"/>
  <Override PartName="/ppt/media/image10.gif" ContentType="image/gif"/>
  <Override PartName="/ppt/media/image32.jpeg" ContentType="image/jpeg"/>
  <Override PartName="/ppt/media/image11.png" ContentType="image/png"/>
  <Override PartName="/ppt/media/image6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33.wmf" ContentType="image/x-wmf"/>
  <Override PartName="/ppt/media/image29.jpeg" ContentType="image/jpeg"/>
  <Override PartName="/ppt/media/image3.jpeg" ContentType="image/jpeg"/>
  <Override PartName="/ppt/media/image30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050-5AFA-4B52-883E-2BC0146D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ED1-09FE-4318-9997-4C04BC6F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1C5-9018-49B2-ABD3-C3782B33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E44-B5EE-4A2A-BD80-BF331715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069-BBAE-4A59-83F7-C77F55B1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572C-D82B-4826-AD7D-2AE01342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B95A-C6B9-4592-AE80-2B48AC78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A09-EEC3-4A17-824C-A2AE4164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E54-F09F-466E-956D-67FB10E9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A67-9323-483D-AB53-93CFBA88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FDE6-8F98-4CBF-AA46-F289FC7C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EF93-DC1D-4988-9CF3-A52B0037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246F-85B6-436C-8656-522522B9C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8900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148428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990099"/>
                </a:solidFill>
                <a:latin typeface="Arial"/>
              </a:rPr>
              <a:t>Beta bea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cques Bou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A Salay/ APC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997360"/>
            <a:ext cx="669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sics of beta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baseline  CERN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r energy beta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0"/>
            <a:ext cx="20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F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rn, 18/10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82036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2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95672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8136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0.5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58800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17236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472428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57336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5772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0872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602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950080"/>
            <a:ext cx="3743280" cy="3682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PL= 10 x T2K1  + sensitivity on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6453360"/>
            <a:ext cx="460836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ame performance as T2K2 (mega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to overcome superbeam limitation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856764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in proble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 protons produce less negative pions, s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ss anti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ineutrino cross-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5 times sma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an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10 SPL years have to be shared  as  ~ 2 neutrino + 8 antineutrino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he 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e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am to study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scillation and run it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am from S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 asymetry, equivalent to CP asymet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HIS WAS THE INITIAL MOTIVATION FOR A BETA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TA 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268280"/>
            <a:ext cx="808668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oncept proposed by Piero Zucch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e radioactive ions (ISOL tech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m in the CERN accelerator complex up to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order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e ions in a storage ring with long straight sections aimed at a fa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ongly focussed neutrino beam due to small Q value of beta dec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quality factor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pure flavour composition (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ntamin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ectly known energy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aseline scenario first studied at CERN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ats Lindroos and collabora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nd now part of the EURISOL 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trong synergy between beta beams and EURISO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07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production from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(n,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53337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er technology preferred to direct irradiation (heat transfer and efficient cooling allows higher power compared to insulating Be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 production rate is ~2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ons/s (dc) for ~200 kW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916600" cy="4148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2286000"/>
            <a:ext cx="365760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er technology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. Nolen, NPA 701 (2002) 312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27280" y="127080"/>
            <a:ext cx="5790960" cy="83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295280"/>
            <a:ext cx="6705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llation of close-by target nuc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p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er technology cannot be used; the beam hits directly the magnesium oxid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ion rate for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is ~ 1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ons/s (dc) for ~200 kW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can be produced with one order of magnitude higher intensity but the half-life is 17 secon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4760" y="284040"/>
            <a:ext cx="7167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Beta-beam base lin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trategy for the conceptual design stu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should be based o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known techn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large number of technology jumps, requiring major and costly R&amp;D eff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-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ver possibl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xisting 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.e. accelerators) for the “first stage” base line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jor ingredi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S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que for production of radioactive 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ERN 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lerators for acce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ions: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t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21648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1880" y="284040"/>
            <a:ext cx="775800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a-beam baselin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13480" y="5048280"/>
            <a:ext cx="1143000" cy="1079640"/>
          </a:xfrm>
          <a:custGeom>
            <a:avLst/>
            <a:gdLst/>
            <a:ahLst/>
            <a:rect l="l" t="t" r="r" b="b"/>
            <a:pathLst>
              <a:path w="680" h="680">
                <a:moveTo>
                  <a:pt x="104" y="0"/>
                </a:moveTo>
                <a:cubicBezTo>
                  <a:pt x="52" y="116"/>
                  <a:pt x="0" y="232"/>
                  <a:pt x="8" y="336"/>
                </a:cubicBezTo>
                <a:cubicBezTo>
                  <a:pt x="16" y="440"/>
                  <a:pt x="80" y="568"/>
                  <a:pt x="152" y="624"/>
                </a:cubicBezTo>
                <a:cubicBezTo>
                  <a:pt x="224" y="680"/>
                  <a:pt x="352" y="680"/>
                  <a:pt x="440" y="672"/>
                </a:cubicBezTo>
                <a:cubicBezTo>
                  <a:pt x="528" y="664"/>
                  <a:pt x="604" y="620"/>
                  <a:pt x="680" y="5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38600" y="4064040"/>
            <a:ext cx="674640" cy="1127160"/>
          </a:xfrm>
          <a:custGeom>
            <a:avLst/>
            <a:gdLst/>
            <a:ahLst/>
            <a:rect l="l" t="t" r="r" b="b"/>
            <a:pathLst>
              <a:path w="641" h="963">
                <a:moveTo>
                  <a:pt x="0" y="963"/>
                </a:moveTo>
                <a:lnTo>
                  <a:pt x="64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81560" y="3670200"/>
            <a:ext cx="9907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Neutrino Source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cay 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1040" y="3027240"/>
            <a:ext cx="156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on produc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SOL target &amp;   Ion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343240"/>
            <a:ext cx="149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roton Driver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3352680"/>
            <a:ext cx="129528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cay 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500 T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 = ~5 T          C = ~7000 m     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Unicode MS"/>
              </a:rPr>
              <a:t>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~2500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 Unicode MS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00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Unicode MS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130800" y="2610000"/>
            <a:ext cx="1117080" cy="1005480"/>
            <a:chOff x="6130800" y="2610000"/>
            <a:chExt cx="1117080" cy="1005480"/>
          </a:xfrm>
        </p:grpSpPr>
        <p:sp>
          <p:nvSpPr>
            <p:cNvPr id="163" name=""/>
            <p:cNvSpPr/>
            <p:nvPr/>
          </p:nvSpPr>
          <p:spPr>
            <a:xfrm>
              <a:off x="6131160" y="2610000"/>
              <a:ext cx="111672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130800" y="2610000"/>
              <a:ext cx="111672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130800" y="4905000"/>
            <a:ext cx="1117080" cy="1057320"/>
            <a:chOff x="6130800" y="4905000"/>
            <a:chExt cx="1117080" cy="1057320"/>
          </a:xfrm>
        </p:grpSpPr>
        <p:sp>
          <p:nvSpPr>
            <p:cNvPr id="166" name=""/>
            <p:cNvSpPr/>
            <p:nvPr/>
          </p:nvSpPr>
          <p:spPr>
            <a:xfrm flipV="1">
              <a:off x="6131160" y="4904640"/>
              <a:ext cx="1116720" cy="105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6130800" y="4904640"/>
              <a:ext cx="1116720" cy="105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48600" y="3112920"/>
            <a:ext cx="0" cy="232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30800" y="3112920"/>
            <a:ext cx="0" cy="232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38360" y="3289320"/>
            <a:ext cx="2486160" cy="2438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4720" y="5353200"/>
            <a:ext cx="156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cceleration to medium energy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63880" y="5651640"/>
            <a:ext cx="2728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5160" y="5484960"/>
            <a:ext cx="174600" cy="176040"/>
          </a:xfrm>
          <a:custGeom>
            <a:avLst/>
            <a:gdLst/>
            <a:ahLst/>
            <a:rect l="l" t="t" r="r" b="b"/>
            <a:pathLst>
              <a:path w="65" h="51">
                <a:moveTo>
                  <a:pt x="65" y="0"/>
                </a:moveTo>
                <a:lnTo>
                  <a:pt x="0" y="5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95360" y="5194440"/>
            <a:ext cx="533520" cy="722160"/>
          </a:xfrm>
          <a:custGeom>
            <a:avLst/>
            <a:gdLst/>
            <a:ahLst/>
            <a:rect l="l" t="t" r="r" b="b"/>
            <a:pathLst>
              <a:path w="149" h="182">
                <a:moveTo>
                  <a:pt x="0" y="182"/>
                </a:moveTo>
                <a:lnTo>
                  <a:pt x="149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70200" y="5099040"/>
            <a:ext cx="5317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67040" y="2496960"/>
            <a:ext cx="2895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cceleration to final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S &amp; 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251840" y="2304720"/>
            <a:ext cx="0" cy="1066680"/>
          </a:xfrm>
          <a:prstGeom prst="line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34200" y="2143080"/>
            <a:ext cx="22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Beam to  experi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05080" y="2743200"/>
            <a:ext cx="120600" cy="2743200"/>
          </a:xfrm>
          <a:custGeom>
            <a:avLst/>
            <a:gdLst/>
            <a:ahLst/>
            <a:rect l="l" t="t" r="r" b="b"/>
            <a:pathLst>
              <a:path w="1" h="233">
                <a:moveTo>
                  <a:pt x="0" y="0"/>
                </a:moveTo>
                <a:lnTo>
                  <a:pt x="0" y="2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19400" y="4062240"/>
            <a:ext cx="152280" cy="15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4467240"/>
            <a:ext cx="181080" cy="58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1880" y="2305080"/>
            <a:ext cx="24732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960" y="4549680"/>
            <a:ext cx="16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on accelera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in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4720" y="3857760"/>
            <a:ext cx="171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Beam prepara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CR pul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84480" y="3224160"/>
            <a:ext cx="247680" cy="4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5360" y="17859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on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14880" y="17859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05440" y="17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eutrino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4720" y="136224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Low-energy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52920" y="13906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High-energy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6560" y="1295280"/>
            <a:ext cx="8182080" cy="497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314360"/>
            <a:ext cx="2092320" cy="3962520"/>
          </a:xfrm>
          <a:custGeom>
            <a:avLst/>
            <a:gdLst/>
            <a:ahLst/>
            <a:rect l="l" t="t" r="r" b="b"/>
            <a:pathLst>
              <a:path w="1344" h="2496">
                <a:moveTo>
                  <a:pt x="0" y="2496"/>
                </a:moveTo>
                <a:lnTo>
                  <a:pt x="1344" y="2496"/>
                </a:lnTo>
                <a:lnTo>
                  <a:pt x="1344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648180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5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dc to very short bu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6080" y="1066680"/>
            <a:ext cx="8919720" cy="5303160"/>
            <a:chOff x="46080" y="1066680"/>
            <a:chExt cx="8919720" cy="5303160"/>
          </a:xfrm>
        </p:grpSpPr>
        <p:sp>
          <p:nvSpPr>
            <p:cNvPr id="196" name=""/>
            <p:cNvSpPr/>
            <p:nvPr/>
          </p:nvSpPr>
          <p:spPr>
            <a:xfrm>
              <a:off x="1514160" y="1295280"/>
              <a:ext cx="5628960" cy="774720"/>
            </a:xfrm>
            <a:custGeom>
              <a:avLst/>
              <a:gdLst/>
              <a:ahLst/>
              <a:rect l="l" t="t" r="r" b="b"/>
              <a:pathLst>
                <a:path w="2160" h="576">
                  <a:moveTo>
                    <a:pt x="0" y="576"/>
                  </a:moveTo>
                  <a:lnTo>
                    <a:pt x="48" y="528"/>
                  </a:lnTo>
                  <a:lnTo>
                    <a:pt x="144" y="528"/>
                  </a:lnTo>
                  <a:lnTo>
                    <a:pt x="1392" y="0"/>
                  </a:lnTo>
                  <a:lnTo>
                    <a:pt x="1488" y="0"/>
                  </a:lnTo>
                  <a:lnTo>
                    <a:pt x="2160" y="5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493640" y="1295280"/>
              <a:ext cx="0" cy="7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3640" y="2066760"/>
              <a:ext cx="746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6520" y="6202440"/>
              <a:ext cx="18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3120" y="6197760"/>
              <a:ext cx="43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57880" y="6019920"/>
              <a:ext cx="4312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468080" y="2514600"/>
              <a:ext cx="446040" cy="304920"/>
              <a:chOff x="1468080" y="2514600"/>
              <a:chExt cx="446040" cy="304920"/>
            </a:xfrm>
          </p:grpSpPr>
          <p:sp>
            <p:nvSpPr>
              <p:cNvPr id="203" name=""/>
              <p:cNvSpPr/>
              <p:nvPr/>
            </p:nvSpPr>
            <p:spPr>
              <a:xfrm>
                <a:off x="1468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31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94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57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20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83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846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09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H="1" flipV="1">
              <a:off x="960120" y="3546360"/>
              <a:ext cx="334800" cy="2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6640" y="3152880"/>
              <a:ext cx="1294920" cy="39348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0" y="336"/>
                  </a:moveTo>
                  <a:lnTo>
                    <a:pt x="48" y="288"/>
                  </a:lnTo>
                  <a:lnTo>
                    <a:pt x="336" y="288"/>
                  </a:lnTo>
                  <a:lnTo>
                    <a:pt x="672" y="0"/>
                  </a:lnTo>
                  <a:lnTo>
                    <a:pt x="720" y="0"/>
                  </a:lnTo>
                  <a:lnTo>
                    <a:pt x="81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79520" y="21477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1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50640" y="3012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0640" y="362268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60160" y="2441520"/>
              <a:ext cx="479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51000" y="3317760"/>
              <a:ext cx="40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080" y="30812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5840" y="35226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560" y="311796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46880" y="205740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8720" y="136368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41360" y="324180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55960" y="166860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92120" y="2095560"/>
              <a:ext cx="66636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0800000">
              <a:off x="1353600" y="2796840"/>
              <a:ext cx="66636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46520" y="5465880"/>
              <a:ext cx="1828440" cy="152280"/>
            </a:xfrm>
            <a:prstGeom prst="rect">
              <a:avLst/>
            </a:prstGeom>
            <a:solidFill>
              <a:srgbClr val="00ff00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991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277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563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849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135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421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707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993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46520" y="5846760"/>
              <a:ext cx="182844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43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29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815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101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387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673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959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245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006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292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578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864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150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436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22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008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7145280" y="2519280"/>
              <a:ext cx="424440" cy="304920"/>
              <a:chOff x="7145280" y="2519280"/>
              <a:chExt cx="424440" cy="304920"/>
            </a:xfrm>
          </p:grpSpPr>
          <p:sp>
            <p:nvSpPr>
              <p:cNvPr id="254" name=""/>
              <p:cNvSpPr/>
              <p:nvPr/>
            </p:nvSpPr>
            <p:spPr>
              <a:xfrm>
                <a:off x="714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26516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2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8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4516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50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6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627600" y="3827520"/>
              <a:ext cx="175212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7132320" y="3560400"/>
              <a:ext cx="334800" cy="23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38840" y="3166920"/>
              <a:ext cx="1294920" cy="39384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0" y="336"/>
                  </a:moveTo>
                  <a:lnTo>
                    <a:pt x="48" y="288"/>
                  </a:lnTo>
                  <a:lnTo>
                    <a:pt x="336" y="288"/>
                  </a:lnTo>
                  <a:lnTo>
                    <a:pt x="672" y="0"/>
                  </a:lnTo>
                  <a:lnTo>
                    <a:pt x="720" y="0"/>
                  </a:lnTo>
                  <a:lnTo>
                    <a:pt x="81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56360" y="215280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1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522840" y="302724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22840" y="363708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37360" y="24462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3200" y="3332160"/>
              <a:ext cx="40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17920" y="30956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18040" y="35370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7760" y="313200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3560" y="32558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68960" y="2100240"/>
              <a:ext cx="63468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800000">
              <a:off x="7030440" y="2798640"/>
              <a:ext cx="634680" cy="15264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0560" y="607536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99160" y="57704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70560" y="378936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7360560" y="2946240"/>
              <a:ext cx="45684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4760" y="1066680"/>
              <a:ext cx="236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x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to decay 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2x4 bunches of &lt;5 ns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03520" y="1219320"/>
              <a:ext cx="304560" cy="7596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60320" y="2971800"/>
              <a:ext cx="2590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1 s flat bottom with 8 (16) injections. Acceleration in ~1 s  to top PS energy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35120" y="5811840"/>
              <a:ext cx="43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arget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dc production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5120" y="5168880"/>
              <a:ext cx="3606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0 GHz ECR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accumulation for 1/8 (1/16) s ejection of fully stripped ~2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 pulse.              8 (16) batches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60320" y="3733920"/>
              <a:ext cx="2971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C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further bunching to ~100 ns  Acceleration to ~300 MeV/u.              8 (16) repetitions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60320" y="2209680"/>
              <a:ext cx="3809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injection of 4 + 4  bunches from PS. Acceleration to decay ring energy and ejection. Repetition time 8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98360" y="3809880"/>
              <a:ext cx="4875840" cy="2559960"/>
              <a:chOff x="198360" y="3809880"/>
              <a:chExt cx="4875840" cy="2559960"/>
            </a:xfrm>
          </p:grpSpPr>
          <p:sp>
            <p:nvSpPr>
              <p:cNvPr id="288" name=""/>
              <p:cNvSpPr/>
              <p:nvPr/>
            </p:nvSpPr>
            <p:spPr>
              <a:xfrm>
                <a:off x="273960" y="6197760"/>
                <a:ext cx="182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85320" y="6032520"/>
                <a:ext cx="431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60160" y="6032520"/>
                <a:ext cx="4316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7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59960" y="4483080"/>
                <a:ext cx="25142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ost accelerator lina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acceleration to ~100 MeV/u.     8 (16) repetitions during 1 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73960" y="5486400"/>
                <a:ext cx="1828440" cy="152280"/>
              </a:xfrm>
              <a:prstGeom prst="rect">
                <a:avLst/>
              </a:prstGeom>
              <a:solidFill>
                <a:srgbClr val="00ff00">
                  <a:alpha val="3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266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52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838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24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410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696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982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268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3960" y="5867280"/>
                <a:ext cx="1828440" cy="152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18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04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9090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376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662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948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8234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0520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81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567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853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139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425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6711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997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283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5040" y="3848040"/>
                <a:ext cx="1752120" cy="152640"/>
              </a:xfrm>
              <a:custGeom>
                <a:avLst/>
                <a:gdLst/>
                <a:ahLst/>
                <a:rect l="l" t="t" r="r" b="b"/>
                <a:pathLst>
                  <a:path w="1104" h="96">
                    <a:moveTo>
                      <a:pt x="0" y="96"/>
                    </a:moveTo>
                    <a:lnTo>
                      <a:pt x="48" y="48"/>
                    </a:lnTo>
                    <a:lnTo>
                      <a:pt x="480" y="48"/>
                    </a:lnTo>
                    <a:lnTo>
                      <a:pt x="528" y="0"/>
                    </a:lnTo>
                    <a:lnTo>
                      <a:pt x="576" y="48"/>
                    </a:lnTo>
                    <a:lnTo>
                      <a:pt x="1056" y="48"/>
                    </a:lnTo>
                    <a:lnTo>
                      <a:pt x="1104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8360" y="6095880"/>
                <a:ext cx="220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26600" y="5791320"/>
                <a:ext cx="40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198360" y="380988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7137360" y="1685880"/>
              <a:ext cx="1828440" cy="380880"/>
            </a:xfrm>
            <a:custGeom>
              <a:avLst/>
              <a:gdLst/>
              <a:ahLst/>
              <a:rect l="l" t="t" r="r" b="b"/>
              <a:pathLst>
                <a:path w="1152" h="240">
                  <a:moveTo>
                    <a:pt x="0" y="240"/>
                  </a:moveTo>
                  <a:lnTo>
                    <a:pt x="96" y="192"/>
                  </a:lnTo>
                  <a:lnTo>
                    <a:pt x="240" y="192"/>
                  </a:lnTo>
                  <a:lnTo>
                    <a:pt x="11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collection/acceleration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80880" y="2629080"/>
            <a:ext cx="7162920" cy="2133000"/>
            <a:chOff x="380880" y="2629080"/>
            <a:chExt cx="7162920" cy="2133000"/>
          </a:xfrm>
        </p:grpSpPr>
        <p:grpSp>
          <p:nvGrpSpPr>
            <p:cNvPr id="325" name=""/>
            <p:cNvGrpSpPr/>
            <p:nvPr/>
          </p:nvGrpSpPr>
          <p:grpSpPr>
            <a:xfrm>
              <a:off x="380880" y="4228920"/>
              <a:ext cx="5027400" cy="533160"/>
              <a:chOff x="380880" y="4228920"/>
              <a:chExt cx="5027400" cy="533160"/>
            </a:xfrm>
          </p:grpSpPr>
          <p:sp>
            <p:nvSpPr>
              <p:cNvPr id="326" name=""/>
              <p:cNvSpPr/>
              <p:nvPr/>
            </p:nvSpPr>
            <p:spPr>
              <a:xfrm>
                <a:off x="386280" y="4481280"/>
                <a:ext cx="502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08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9692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1584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53476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25080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700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68900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082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100160" y="3682800"/>
              <a:ext cx="5025600" cy="533160"/>
              <a:chOff x="1100160" y="3682800"/>
              <a:chExt cx="5025600" cy="533160"/>
            </a:xfrm>
          </p:grpSpPr>
          <p:sp>
            <p:nvSpPr>
              <p:cNvPr id="336" name=""/>
              <p:cNvSpPr/>
              <p:nvPr/>
            </p:nvSpPr>
            <p:spPr>
              <a:xfrm>
                <a:off x="1105560" y="3935160"/>
                <a:ext cx="5020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001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1584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347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5332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693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8792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0684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1257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834920" y="3414600"/>
              <a:ext cx="502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1296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351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79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5604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987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800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261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620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22520" y="2881080"/>
              <a:ext cx="502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3188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4324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6720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9728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332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3224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152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4380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93840" y="445788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4381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3716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10280" y="3238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96080" y="25527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cay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57200" y="3924000"/>
            <a:ext cx="609120" cy="533160"/>
            <a:chOff x="457200" y="3924000"/>
            <a:chExt cx="609120" cy="533160"/>
          </a:xfrm>
        </p:grpSpPr>
        <p:sp>
          <p:nvSpPr>
            <p:cNvPr id="369" name=""/>
            <p:cNvSpPr/>
            <p:nvPr/>
          </p:nvSpPr>
          <p:spPr>
            <a:xfrm flipV="1">
              <a:off x="457200" y="3924000"/>
              <a:ext cx="15228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09480" y="3924000"/>
              <a:ext cx="15192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61760" y="3924000"/>
              <a:ext cx="15192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914040" y="3924000"/>
              <a:ext cx="15228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425920" y="44449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489640" y="3911760"/>
            <a:ext cx="609120" cy="532800"/>
            <a:chOff x="5489640" y="3911760"/>
            <a:chExt cx="609120" cy="532800"/>
          </a:xfrm>
        </p:grpSpPr>
        <p:sp>
          <p:nvSpPr>
            <p:cNvPr id="375" name=""/>
            <p:cNvSpPr/>
            <p:nvPr/>
          </p:nvSpPr>
          <p:spPr>
            <a:xfrm flipV="1">
              <a:off x="5489640" y="3911760"/>
              <a:ext cx="15228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641920" y="3911760"/>
              <a:ext cx="15192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794200" y="3911760"/>
              <a:ext cx="15192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946480" y="3911760"/>
              <a:ext cx="15228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V="1">
            <a:off x="1143000" y="3429000"/>
            <a:ext cx="692280" cy="495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84360" y="170028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5069"/>
              <a:gd name="adj5" fmla="val 319273"/>
              <a:gd name="adj6" fmla="val -656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amp time 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56008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5753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ime 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5753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5740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547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48240" y="547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258920" y="4797360"/>
            <a:ext cx="4191120" cy="762120"/>
            <a:chOff x="1258920" y="4797360"/>
            <a:chExt cx="4191120" cy="762120"/>
          </a:xfrm>
        </p:grpSpPr>
        <p:sp>
          <p:nvSpPr>
            <p:cNvPr id="388" name=""/>
            <p:cNvSpPr/>
            <p:nvPr/>
          </p:nvSpPr>
          <p:spPr>
            <a:xfrm rot="5400000">
              <a:off x="3163680" y="3273120"/>
              <a:ext cx="381240" cy="419112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109080 h 4191120"/>
                <a:gd name="textAreaBottom" fmla="*/ 4082040 h 41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30520" y="47973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No coll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V="1">
            <a:off x="1835280" y="2852280"/>
            <a:ext cx="3600360" cy="5763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486400" y="1600200"/>
            <a:ext cx="2286000" cy="1790640"/>
            <a:chOff x="5486400" y="1600200"/>
            <a:chExt cx="2286000" cy="1790640"/>
          </a:xfrm>
        </p:grpSpPr>
        <p:sp>
          <p:nvSpPr>
            <p:cNvPr id="392" name=""/>
            <p:cNvSpPr/>
            <p:nvPr/>
          </p:nvSpPr>
          <p:spPr>
            <a:xfrm>
              <a:off x="5486400" y="293364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440" y="1600200"/>
              <a:ext cx="1218960" cy="6094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28384"/>
                <a:gd name="adj5" fmla="val 236981"/>
                <a:gd name="adj6" fmla="val -511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Reset time S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258920" y="4508640"/>
            <a:ext cx="4114800" cy="30456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5950080"/>
            <a:ext cx="6012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Typically (for </a:t>
            </a:r>
            <a:r>
              <a:rPr b="1" lang="en-GB" sz="1600" spc="-1" strike="noStrike" baseline="30000">
                <a:solidFill>
                  <a:srgbClr val="cc0000"/>
                </a:solidFill>
                <a:latin typeface="Arial"/>
              </a:rPr>
              <a:t>6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e): 1 out of 8 produ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ç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able ions is colle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1 out of 4 collected ions makes it to the ring (factor 2 for decays, factor 2 for transmission losses between machi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40360" y="6308640"/>
            <a:ext cx="29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apted from M.Lindro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1989000"/>
            <a:ext cx="151272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Main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71640" y="2349360"/>
            <a:ext cx="431640" cy="1366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0" y="1844640"/>
            <a:ext cx="1143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3611"/>
              <a:gd name="adj5" fmla="val 225000"/>
              <a:gd name="adj6" fmla="val -9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Ramp time 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684360" y="2349360"/>
            <a:ext cx="287280" cy="1366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878" t="27845" r="26558" b="-688"/>
          <a:stretch/>
        </p:blipFill>
        <p:spPr>
          <a:xfrm>
            <a:off x="-541440" y="2060640"/>
            <a:ext cx="5149800" cy="364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03280" y="5734080"/>
            <a:ext cx="2303640" cy="611640"/>
          </a:xfrm>
          <a:prstGeom prst="rect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scillation maximum seen a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 30 km/M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692280"/>
            <a:ext cx="396072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ar oscillation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s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8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=0.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692280"/>
            <a:ext cx="44640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mospheric oscillation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s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2.5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= 1.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162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KAM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1628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41702" t="17657" r="0" b="0"/>
          <a:stretch/>
        </p:blipFill>
        <p:spPr>
          <a:xfrm>
            <a:off x="4462560" y="1916280"/>
            <a:ext cx="4681440" cy="455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64000" y="3429000"/>
            <a:ext cx="324036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115920"/>
            <a:ext cx="7056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ESENT EVIDENCE FOR OSCI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6491160"/>
            <a:ext cx="35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Explains solar neutrino def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94200" y="64911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Studied by MINOS, OPERA, ICA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5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(in the S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969840" y="1111320"/>
            <a:ext cx="748512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5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oals -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15400" cy="3672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base line design, the aims are (cf. Bouchez et al., NuFact’0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rate of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.9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anti-neutri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) along one straigh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rate of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.1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neutri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) 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for a “normalized” year of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esent status is (after 8 months of the 4-year design stud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ntineutrino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figures)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have reached the design val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  no safety margin is yet provid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eutrino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figures) ar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one order of magnitude be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   desired performance.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88000" y="47628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 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0920" y="5229360"/>
            <a:ext cx="856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*) for a single ISOL target,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U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ulti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urisol targets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ptimize col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 an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 coo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crease lo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e to incomplete stripping,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relax duty cycle as a last re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With present ideas, we could be off by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only a facto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148428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ERBE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TA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→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  →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→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648036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Superbeam + betab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42920" y="3573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24000" y="357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51640" y="3573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88000" y="357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47640" y="2781360"/>
            <a:ext cx="503280" cy="576360"/>
          </a:xfrm>
          <a:prstGeom prst="upDownArrow">
            <a:avLst>
              <a:gd name="adj1" fmla="val 50000"/>
              <a:gd name="adj2" fmla="val 2279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56360" y="2781360"/>
            <a:ext cx="557280" cy="576360"/>
          </a:xfrm>
          <a:prstGeom prst="upDownArrow">
            <a:avLst>
              <a:gd name="adj1" fmla="val 50000"/>
              <a:gd name="adj2" fmla="val 20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32000" y="371628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32000" y="227664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4057800">
            <a:off x="3947760" y="1663560"/>
            <a:ext cx="211320" cy="3024000"/>
          </a:xfrm>
          <a:prstGeom prst="upDownArrow">
            <a:avLst>
              <a:gd name="adj1" fmla="val 50000"/>
              <a:gd name="adj2" fmla="val 284876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516800">
            <a:off x="2540160" y="313668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16000" y="4292640"/>
            <a:ext cx="6264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5229360"/>
            <a:ext cx="7345440" cy="11674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Furthermore: the small signal searched for with one beam is the bulk of events with the other be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ter handle on detector response, strong add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64000" y="1268280"/>
            <a:ext cx="1439640" cy="7855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beam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Beta beam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4360" y="1844640"/>
            <a:ext cx="77752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ign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-ring mu-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ackgrou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charged pions mimicking a muon (all pions except  when absorbed by strong inter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Lower energ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less background pions, but muon Cerenkov threshold and bad energy resolution (Fermi moment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Higher energi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more background, but better muon efficiency and energy bins become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00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Optimization obtained through detailed detector response to signal an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0960" y="5099040"/>
            <a:ext cx="683784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Present optimization: </a:t>
            </a:r>
            <a:r>
              <a:rPr b="0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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= 100, 10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. Mezzet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24000" y="324000"/>
            <a:ext cx="8820000" cy="64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34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08000" y="6308640"/>
            <a:ext cx="22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Mezzetto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519440" cy="38242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117360" y="1268280"/>
            <a:ext cx="4167360" cy="51850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611280" y="260280"/>
            <a:ext cx="8137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TA BEAM PERFORMANCES, ALONE and WITH 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50920" y="602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5092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7636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2728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672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9640" y="630864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0.2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 0.5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1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2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  4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43280" y="580536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3280" y="479736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43280" y="364500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350028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GB" sz="16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11640" y="4581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3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4720" y="56610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0.1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76720" y="6453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Mezzetto TAUP05 Zarag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765000"/>
            <a:ext cx="9144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For Frejus and HyperK detecto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4.4 Mton.year (~10 year run, 440 kT fiducial mass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Frejus: full simulation of signal and backgroun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based on SK software: results cross-checked using GLoBES </a:t>
            </a: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othe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GLoBES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500720" y="1484280"/>
            <a:ext cx="4174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atics on signal and background put at 2% on all projects for the same(10 y) runn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FACT; 10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1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ays/year, 2 x 50 kTdetectors at 3000 and 7500 km, detection threshold 4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3280" y="429264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11640" y="4076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5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5640" y="6021360"/>
            <a:ext cx="0" cy="287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11640" y="501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2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3280" y="5157720"/>
            <a:ext cx="2890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3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Degeneracy/ambiguity issues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26920" y="1773360"/>
            <a:ext cx="727416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First, one should clearly distinguish between the discovery potenti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an experimen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0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0 ) and the determination of thes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might be plagued by ambiguities (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a similar situation existed for many years for solar neutrinos : significant DEFICIT, many solutions : SMA, LMA, LOW, V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 highest value of </a:t>
            </a:r>
            <a:r>
              <a:rPr b="0" lang="el-GR" sz="1800" spc="-1" strike="noStrike">
                <a:solidFill>
                  <a:srgbClr val="cc0000"/>
                </a:solidFill>
                <a:latin typeface="Arial"/>
              </a:rPr>
              <a:t>θ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Arial"/>
              </a:rPr>
              <a:t>13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ong different solutions as an indicator of sensitivity o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as is done for exemple by Lindner et al,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is in my opinion mislead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a 2-dim sensitivity contour bringing much more information).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With this method, any oscillation experiment would have no sensitivity on </a:t>
            </a:r>
            <a:r>
              <a:rPr b="0" lang="el-GR" sz="1800" spc="-1" strike="noStrike">
                <a:solidFill>
                  <a:srgbClr val="990099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 as long as </a:t>
            </a:r>
            <a:r>
              <a:rPr b="0" lang="en-GB" sz="1800" spc="-1" strike="noStrike">
                <a:solidFill>
                  <a:srgbClr val="990099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m</a:t>
            </a:r>
            <a:r>
              <a:rPr b="0" lang="en-GB" sz="1800" spc="-1" strike="noStrike" baseline="30000">
                <a:solidFill>
                  <a:srgbClr val="990099"/>
                </a:solidFill>
                <a:latin typeface="Arial"/>
                <a:ea typeface="Arial"/>
              </a:rPr>
              <a:t>2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is unknow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Degeneracy/ambiguity issues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95280" y="1830240"/>
            <a:ext cx="7705800" cy="5008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284720" y="2205000"/>
            <a:ext cx="143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2K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95640" y="3141720"/>
            <a:ext cx="28083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.Schwetz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-ph/05010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225360"/>
            <a:ext cx="91440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ixing matrix: the missing 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68000" y="3789360"/>
            <a:ext cx="1150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789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619280" y="2133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3789360"/>
            <a:ext cx="865080" cy="934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19280" y="3499920"/>
            <a:ext cx="1440000" cy="2890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3357360"/>
            <a:ext cx="1224000" cy="431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19280" y="2636640"/>
            <a:ext cx="1224000" cy="1152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84000" y="3068640"/>
            <a:ext cx="934920" cy="72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581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3716280"/>
            <a:ext cx="48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1844640"/>
            <a:ext cx="5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700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3213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2492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2421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781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450864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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393372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3933720"/>
            <a:ext cx="64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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6000" y="278136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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5013360"/>
            <a:ext cx="187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mercialScript BT"/>
              </a:rPr>
              <a:t>l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U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mercialScript BT"/>
              </a:rPr>
              <a:t>l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589720"/>
            <a:ext cx="309564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  is a unitary matri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angles 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us 1 CP violating phase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1773360"/>
            <a:ext cx="26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masses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2565360"/>
            <a:ext cx="475308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SUN  :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33cc33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</a:rPr>
              <a:t>12</a:t>
            </a:r>
            <a:r>
              <a:rPr b="1" lang="en-GB" sz="20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=  8 10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-5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eV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, 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cc33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~ 35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  <a:ea typeface="Arial"/>
              </a:rPr>
              <a:t>ATM : </a:t>
            </a:r>
            <a:r>
              <a:rPr b="1" lang="en-GB" sz="2000" spc="-1" strike="noStrike">
                <a:solidFill>
                  <a:srgbClr val="33cc33"/>
                </a:solidFill>
                <a:latin typeface="Symbol"/>
                <a:ea typeface="Symbol"/>
              </a:rPr>
              <a:t>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</a:rPr>
              <a:t>23</a:t>
            </a:r>
            <a:r>
              <a:rPr b="1" lang="en-GB" sz="20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=  2.5 10</a:t>
            </a:r>
            <a:r>
              <a:rPr b="0" lang="en-GB" sz="1800" spc="-1" strike="noStrike" baseline="30000">
                <a:solidFill>
                  <a:srgbClr val="33cc33"/>
                </a:solidFill>
                <a:latin typeface="Arial"/>
              </a:rPr>
              <a:t>-3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eV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, 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cc33"/>
                </a:solidFill>
                <a:latin typeface="Arial"/>
              </a:rPr>
              <a:t>23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 = 45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3716280"/>
            <a:ext cx="4895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Missing : </a:t>
            </a:r>
            <a:r>
              <a:rPr b="1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GB" sz="2400" spc="-1" strike="noStrike" baseline="-25000">
                <a:solidFill>
                  <a:srgbClr val="cc0000"/>
                </a:solidFill>
                <a:latin typeface="Arial"/>
              </a:rPr>
              <a:t>13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and the phase </a:t>
            </a:r>
            <a:r>
              <a:rPr b="1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oth govern the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e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oscillation at the atmospheric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We know that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13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is &lt; 10</a:t>
            </a:r>
            <a:r>
              <a:rPr b="1" lang="en-GB" sz="1800" spc="-1" strike="noStrike" baseline="30000">
                <a:solidFill>
                  <a:srgbClr val="333399"/>
                </a:solidFill>
                <a:latin typeface="Arial"/>
              </a:rPr>
              <a:t>o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(CHOO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573408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11640" y="5734080"/>
            <a:ext cx="48261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we have to look for a small osc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4292640"/>
            <a:ext cx="1295640" cy="239760"/>
          </a:xfrm>
          <a:custGeom>
            <a:avLst/>
            <a:gdLst/>
            <a:ahLst/>
            <a:rect l="l" t="t" r="r" b="b"/>
            <a:pathLst>
              <a:path w="816" h="151">
                <a:moveTo>
                  <a:pt x="0" y="0"/>
                </a:moveTo>
                <a:cubicBezTo>
                  <a:pt x="136" y="60"/>
                  <a:pt x="272" y="121"/>
                  <a:pt x="408" y="136"/>
                </a:cubicBezTo>
                <a:cubicBezTo>
                  <a:pt x="544" y="151"/>
                  <a:pt x="680" y="121"/>
                  <a:pt x="816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3645000"/>
            <a:ext cx="82800" cy="936360"/>
          </a:xfrm>
          <a:custGeom>
            <a:avLst/>
            <a:gdLst/>
            <a:ahLst/>
            <a:rect l="l" t="t" r="r" b="b"/>
            <a:pathLst>
              <a:path w="52" h="590">
                <a:moveTo>
                  <a:pt x="45" y="590"/>
                </a:moveTo>
                <a:cubicBezTo>
                  <a:pt x="48" y="503"/>
                  <a:pt x="52" y="416"/>
                  <a:pt x="45" y="318"/>
                </a:cubicBezTo>
                <a:cubicBezTo>
                  <a:pt x="38" y="220"/>
                  <a:pt x="7" y="5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924280"/>
            <a:ext cx="168120" cy="504720"/>
          </a:xfrm>
          <a:custGeom>
            <a:avLst/>
            <a:gdLst/>
            <a:ahLst/>
            <a:rect l="l" t="t" r="r" b="b"/>
            <a:pathLst>
              <a:path w="106" h="318">
                <a:moveTo>
                  <a:pt x="91" y="318"/>
                </a:moveTo>
                <a:cubicBezTo>
                  <a:pt x="98" y="254"/>
                  <a:pt x="106" y="190"/>
                  <a:pt x="91" y="137"/>
                </a:cubicBezTo>
                <a:cubicBezTo>
                  <a:pt x="76" y="84"/>
                  <a:pt x="38" y="4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646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95280" y="6093000"/>
            <a:ext cx="7848720" cy="680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appearance in superbeam may also help in solving degeneracies (Donini et al, hep-ph/04114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71640" y="476280"/>
            <a:ext cx="73454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 possible schedule for  a european lab. at Frej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9280" y="1341360"/>
            <a:ext cx="81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       2005                 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0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2015                      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916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ety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35280" y="1916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08000" y="1916280"/>
            <a:ext cx="1368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a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421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 c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92360" y="2421000"/>
            <a:ext cx="2592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a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03280" y="2421000"/>
            <a:ext cx="57636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.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79640" y="2421000"/>
            <a:ext cx="12970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292428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5280" y="2924280"/>
            <a:ext cx="143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M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2360" y="2924280"/>
            <a:ext cx="2808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MT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5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.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64000" y="3429000"/>
            <a:ext cx="2016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492360" y="3429000"/>
            <a:ext cx="187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side l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4076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-acc.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0720" y="4005360"/>
            <a:ext cx="284328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-decay,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0920" y="4653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780000" y="4653000"/>
            <a:ext cx="287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59640" y="4653000"/>
            <a:ext cx="248436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51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59640" y="5157720"/>
            <a:ext cx="248436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 rot="10800000">
            <a:off x="5435280" y="5733720"/>
            <a:ext cx="3384360" cy="64260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everal modules: physics can start when the 1</a:t>
            </a:r>
            <a:r>
              <a:rPr b="0" lang="en-GB" sz="18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 is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3528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64000" y="2421000"/>
            <a:ext cx="0" cy="360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80000" y="5157720"/>
            <a:ext cx="287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48000" y="1773360"/>
            <a:ext cx="0" cy="396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47640" y="5734080"/>
            <a:ext cx="338472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380880" y="1600200"/>
            <a:ext cx="7626600" cy="3359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373480" y="2509920"/>
            <a:ext cx="1198440" cy="549360"/>
          </a:xfr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1520" y="5051520"/>
            <a:ext cx="2743200" cy="1218960"/>
          </a:xfrm>
          <a:solidFill>
            <a:srgbClr val="ffe98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nac4 approval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2006-20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to decide on the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plementation  of the Linac 4 and any increased R&amp;D 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depending on new funds made available and on a new HR polic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15000" y="4989600"/>
            <a:ext cx="2895480" cy="1411200"/>
          </a:xfrm>
          <a:solidFill>
            <a:srgbClr val="ffc5e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PL approval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2009-201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o review and redefine the strategy for CERN activities in the next decade 2011-2020 in the light of the first results from LHC and of progress and results from the previous actions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4920" y="1143000"/>
            <a:ext cx="2679480" cy="465120"/>
          </a:xfr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F tests in SM 18 of prototype structures* for Lina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76840" y="510048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8620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235080"/>
            <a:ext cx="685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265360" y="1143000"/>
            <a:ext cx="33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 Quotes from R. Aymar (Jan.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645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416720" cy="777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High energy beta 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26920" y="1268280"/>
            <a:ext cx="79218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papers in the last 2 years have advocated using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higher energ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eta bea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ging from 350 (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refurbished SP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to 1000 or higher (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greenfield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Higher energy offers several advantages, in particular to solve the mass hierarchy through matter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MOST STUDIES BASED ON THE HYPOTHESIS THAT THE DECAY RATE IN THE RING STAYS THE S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o that the event rate grows lik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veats: phase space limitation  =&gt; increase bunch length =&gt; more background: This needs to be studied car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higher energy, performances of water Cerenkov deteriorate (background increase). Possibility =&gt; change technology =&gt; smaller mass =&gt; less statistics (and loss for non-accelerator phys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a new accelerator, new site and a very big decay ring =&gt;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cost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projects, if proven feasible and as performant as expected, will arrive much later, but would then be direct competitors to a neutrino fac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e P.Hernandez review talk at CERN ISS meeting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-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486400" cy="54151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al and Backgrounds, W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18720" y="51814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2640" y="51814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e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366840" y="1143000"/>
            <a:ext cx="3976560" cy="40147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724280" y="1058760"/>
            <a:ext cx="4148280" cy="4129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 of D.Casper on W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y mature and powerfu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s to low-medium energy super-beams or beta beams are fairly mana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details of beam, baselin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ies above 1.5-2 GeV create difficu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mitigated by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First example (hep-ph/0503021)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. Burguet-Castell et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84360" y="1628640"/>
            <a:ext cx="7272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Flux independent of </a:t>
            </a:r>
            <a:r>
              <a:rPr b="0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Overestimate duty cycl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setups considered (with megaton detector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120, L=130 km (optimal Frej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150, L=300 km (max,SPS at optimal dis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I g=350, L=730 km (S-SPS, Canfranc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to CP-Violation v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θ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Tahoma"/>
              </a:rPr>
              <a:t>13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≠0 v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63640" y="878040"/>
            <a:ext cx="5616720" cy="24796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84520" y="3933720"/>
            <a:ext cx="559584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Comparison of  set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4716360" cy="35049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4716360" cy="353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826920" y="6093000"/>
            <a:ext cx="316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E.Couce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Another look at the mixing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4000" y="2060640"/>
                <a:ext cx="8499240" cy="13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476360" y="38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38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2349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28000" y="2349360"/>
            <a:ext cx="43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20000" y="2708280"/>
            <a:ext cx="43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28000" y="2708280"/>
            <a:ext cx="36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39337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4941720"/>
            <a:ext cx="187344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4941720"/>
            <a:ext cx="201780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Symbol"/>
                <a:ea typeface="Symbol"/>
              </a:rPr>
              <a:t></a:t>
            </a:r>
            <a:r>
              <a:rPr b="0" lang="en-GB" sz="2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</a:t>
            </a:r>
            <a:r>
              <a:rPr b="0" lang="en-GB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cc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cc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ATM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5013360"/>
            <a:ext cx="216072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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6021360"/>
            <a:ext cx="8281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his “factorization” of effects is due to the smallness of </a:t>
            </a:r>
            <a:r>
              <a:rPr b="1" lang="en-GB" sz="20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9900"/>
                </a:solidFill>
                <a:latin typeface="Arial"/>
              </a:rPr>
              <a:t>13 </a:t>
            </a: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he strong difference in oscillation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4400" spc="-1" strike="noStrike" baseline="30000">
                <a:solidFill>
                  <a:srgbClr val="0000ff"/>
                </a:solidFill>
                <a:latin typeface="Arial"/>
              </a:rPr>
              <a:t>nd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 example (Migliozzi, TAUP0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59280" y="1628640"/>
            <a:ext cx="460836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350 (S-SPS) , same flux a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ERN-Frej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 kT at Gran 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 year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276720" y="3348000"/>
            <a:ext cx="5867280" cy="3510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900000" y="4869000"/>
            <a:ext cx="24480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s similar to CERN-Frejus and no non-accelerator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859280" y="3141720"/>
            <a:ext cx="2174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348000" y="5300640"/>
            <a:ext cx="12240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3rd example (hep-ph/0405081)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erranova et 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177336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280" y="1773360"/>
            <a:ext cx="770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 between 1500 and 2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ll detector counting muons at Gran 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268360" y="2770200"/>
            <a:ext cx="547236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EC ions: monochromatic beam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.Bernabeu et al, hep-ph/05050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8360" y="1628640"/>
            <a:ext cx="7343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didates: 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48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   T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/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3.1 mn   EC/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96/4         Q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EC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2062 k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   T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7.2 mn  EC/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99.9/0.1   Q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E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1397 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176720" cy="31287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835280" y="31417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270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Pending question: achievable flux ? Challenge: needs partially stripped 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3640" y="3500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un at different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’s, with or without betabeam: interesting potenti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59280" y="4653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Even at low flux, ideal beam to measure neutrino cross-sections in a nea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8000" y="5805360"/>
            <a:ext cx="8928000" cy="855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also…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ntense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onochromatic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neutron bea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about 10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/sec , useful for nuclear physics (cf NuP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85440" cy="136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very) low energy beta-beams(</a:t>
            </a:r>
            <a:r>
              <a:rPr b="0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~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7-14)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Volpe, Journ. Phys. G30 (2004) 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642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 exploit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ta-beam concep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oduce intense and pur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ow-energy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eutrino be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653800" y="1700280"/>
            <a:ext cx="3116160" cy="1194480"/>
            <a:chOff x="5653800" y="1700280"/>
            <a:chExt cx="3116160" cy="1194480"/>
          </a:xfrm>
        </p:grpSpPr>
        <p:sp>
          <p:nvSpPr>
            <p:cNvPr id="542" name=""/>
            <p:cNvSpPr/>
            <p:nvPr/>
          </p:nvSpPr>
          <p:spPr>
            <a:xfrm>
              <a:off x="6040080" y="2257560"/>
              <a:ext cx="2541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230880" y="1952280"/>
              <a:ext cx="252360" cy="3049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6287040" y="2408760"/>
              <a:ext cx="394200" cy="39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5863680" y="1943280"/>
              <a:ext cx="227160" cy="3240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5653800" y="2389680"/>
              <a:ext cx="393840" cy="403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30880" y="2562480"/>
              <a:ext cx="252360" cy="3045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863680" y="2553120"/>
              <a:ext cx="227160" cy="3236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37200" y="2462400"/>
              <a:ext cx="69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67720" y="24433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o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35680" y="2200320"/>
              <a:ext cx="87480" cy="40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803000" y="2399400"/>
              <a:ext cx="591120" cy="590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823880" y="1949400"/>
              <a:ext cx="528480" cy="3870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27480" y="2496600"/>
              <a:ext cx="519840" cy="3981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06280" y="19526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04920" y="20624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15880" y="2189160"/>
              <a:ext cx="59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00160" y="1700280"/>
              <a:ext cx="156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Comic Sans MS"/>
                </a:rPr>
                <a:t>Beta-be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14160" y="3332160"/>
            <a:ext cx="2524680" cy="1033200"/>
            <a:chOff x="6014160" y="3332160"/>
            <a:chExt cx="2524680" cy="1033200"/>
          </a:xfrm>
        </p:grpSpPr>
        <p:sp>
          <p:nvSpPr>
            <p:cNvPr id="560" name=""/>
            <p:cNvSpPr/>
            <p:nvPr/>
          </p:nvSpPr>
          <p:spPr>
            <a:xfrm flipV="1">
              <a:off x="8074080" y="3755520"/>
              <a:ext cx="457200" cy="15228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2480" y="3881160"/>
              <a:ext cx="304920" cy="304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16680" y="4033800"/>
              <a:ext cx="457200" cy="0"/>
            </a:xfrm>
            <a:prstGeom prst="line">
              <a:avLst/>
            </a:prstGeom>
            <a:ln w="9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921800" y="4213080"/>
              <a:ext cx="30456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97760" y="3832200"/>
              <a:ext cx="15264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38040" y="355572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Georgi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16880" y="3984480"/>
              <a:ext cx="304920" cy="304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47880" y="3332160"/>
              <a:ext cx="3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9900"/>
                  </a:solidFill>
                  <a:latin typeface="Comic Sans MS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14160" y="353520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996633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96640" y="347472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Georgi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140360" y="5300640"/>
            <a:ext cx="5003640" cy="144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sign study within EURI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sign of a small storage ring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ssible construction at 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in old antiproton storage ring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39640" y="3040200"/>
            <a:ext cx="516420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hysics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utrino-nucleus interaction studie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uclear astro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utrino experiments (oscilla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utrinoless double-beta dec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uclea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Conclusion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39640" y="765000"/>
            <a:ext cx="7993080" cy="575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are clearly 2 different strategies concerning beta-beam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. The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aseline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=100,  L=130 km)  with a megaton WC detector at Frejus, which makes full use of some happy coincid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CERN-Frejus is the right distance for the SPL 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Digging a safety gallery at Frejus gives a good opprtunity to dig the new cavern (2010-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Beta-beam energy obtained from SPS fits also Cern-Frejus distance, and a strong synergy with Eurisol project has become evident and fruit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The betabeam + superbeam combination gives by far the best second generation project worldwide (superior to T2K2 or BNL/U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an easily take the risk of a null result on oscillations, since such a detector has a very rich and fundamental program of  its own (proton decay, supernova explo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is approach,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the project is not meant to compete with neutrino factories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ut to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rrive soon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7) and allow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ignificant prog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oscillations….while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ringing back neutrino physics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922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1280" y="1484280"/>
            <a:ext cx="7777080" cy="340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The higher energy betabea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which clearly aims at competing with a neutrino fac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achieve these goals, the baseline scenario has to be significantly improved to override present limitations. It me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new complex of accelerators (faster, higher acceptable flux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etter (and bigger!) decay 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uch a project will anyhow need much more R&amp;D, will arrive much later and will be also more costly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 oscillation physics could also become a criterim to choose between betabeams and neutrino factories, in case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eneration experiments have seen 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5157720"/>
            <a:ext cx="777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ually, these 2 strategies are not exclusive, we could have both in sequence. An alternative would be to skip the baseline betabeam and go directly to a high energy betabeam or a neutrino factory,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ut I personnally find this too ri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4824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1280" y="692280"/>
            <a:ext cx="7920000" cy="58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 megaton water Cerenkov detector ,consisting of several modules, can be installed  between 2010 and 2020 at Frej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It has a very rich non-accelerator program of its own: proton decay, SN explosions, atmospheric, solar, past SN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If CERN decides to build the SP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t offers an excellent superbeam of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eneration, with similar performances to the japanese project T2K2 and starting sooner (HK ready by 2020-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If  this SPL is the proton machine for EURISOL at CER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t opens the way to beta beams, with modest added cost, offering  better performances than the superbeam and a strong complementarity between the two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rning neutrino physics, this project is not meant to compete with a neutrino factory, but to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rrive sooner and make significant prog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the presently unknown parameters… and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ring back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physics to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Higher energy beta beams correspond to a different strategy, as an alternative to neutrino fac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It gives a common interest to nuclear physicists and neutrino physicists to have the SPL at 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050920" y="23493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108000" y="404640"/>
          <a:ext cx="8748720" cy="6192720"/>
        </p:xfrm>
        <a:graphic>
          <a:graphicData uri="http://schemas.openxmlformats.org/drawingml/2006/table">
            <a:tbl>
              <a:tblPr/>
              <a:tblGrid>
                <a:gridCol w="863640"/>
                <a:gridCol w="1368360"/>
                <a:gridCol w="1476360"/>
                <a:gridCol w="1044720"/>
                <a:gridCol w="1368360"/>
                <a:gridCol w="1295280"/>
                <a:gridCol w="133200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lacement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rov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TEREST  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HC up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hysics beyond C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RIB beyond ISOL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hysics with Kand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a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ac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850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GeV RCS* for H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50 k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 GeV/mMW RC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per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beam ?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oo short  beam pul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GeV/50 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per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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592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PS*/** for H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50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sity x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Hz RCS*/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</a:tr>
              <a:tr h="77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eV SC SPS*/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 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sity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</a:tr>
            </a:tbl>
          </a:graphicData>
        </a:graphic>
      </p:graphicFrame>
      <p:sp>
        <p:nvSpPr>
          <p:cNvPr id="581" name=""/>
          <p:cNvSpPr/>
          <p:nvPr/>
        </p:nvSpPr>
        <p:spPr>
          <a:xfrm>
            <a:off x="606240" y="655308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with brightness x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5928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 need new injector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979640" y="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IP WG: long term alternativ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.Garo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1600200" y="22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1219320"/>
            <a:ext cx="830592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uture neutrino facilities offer great promise for fundamental discoveries (such as CP violation) in neutrino physics, and a post-LHC construction window may exist for a facility to be sited at C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ERN should arrange a budget and personnel to enhance its participation in further developing the physics case and the technologies necessary for the realization of such facilities.  This would allow CERN to play a significant role in such projects wherever they are sited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A high-power proton driver is a main building block of future projects, and is therefore required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Comic Sans MS"/>
              </a:rPr>
              <a:t>Alone,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 a direct superbeam from a 2.2 GeV SPL does not appear to be the most attractive option for a future CERN neutrino experiment as it does not produce a significant advance on T2K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welcome the effort, partly funded by the EU, concerned with the conceptual design of a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beam.  At the same time 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CERN should support the European neutrino factory initiative in its conceptual design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3120" y="6835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PSC (Villars) 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-952920" y="301320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7c00"/>
                </a:solidFill>
                <a:latin typeface="Arial"/>
              </a:rPr>
              <a:t>CERN Context [3/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24480" y="575136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6923160" cy="777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The quest for </a:t>
            </a:r>
            <a:r>
              <a:rPr b="0" lang="en-GB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-25000">
                <a:solidFill>
                  <a:srgbClr val="cc0000"/>
                </a:solidFill>
                <a:latin typeface="Arial"/>
              </a:rPr>
              <a:t>13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268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reactor experiments (double-Chooz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superbeams of first generation (T2K,NO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421000"/>
            <a:ext cx="6121440" cy="718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…</a:t>
            </a: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.and for </a:t>
            </a:r>
            <a:r>
              <a:rPr b="0" lang="en-GB" sz="3600" spc="-1" strike="noStrike">
                <a:solidFill>
                  <a:srgbClr val="cc0000"/>
                </a:solidFill>
                <a:latin typeface="Symbol"/>
                <a:ea typeface="Symbol"/>
              </a:rPr>
              <a:t></a:t>
            </a:r>
            <a:r>
              <a:rPr b="0" lang="en-GB" sz="3600" spc="-1" strike="noStrike" baseline="-25000">
                <a:solidFill>
                  <a:srgbClr val="cc0000"/>
                </a:solidFill>
                <a:latin typeface="Arial"/>
              </a:rPr>
              <a:t>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3141720"/>
            <a:ext cx="756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gaton detectors 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superbeams of second gene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etabe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fa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5734080"/>
            <a:ext cx="874872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while solving as much as possible intrinsic, mass hierarchy and </a:t>
            </a:r>
            <a:r>
              <a:rPr b="1" lang="el-GR" sz="2000" spc="-1" strike="noStrike">
                <a:solidFill>
                  <a:srgbClr val="33cc33"/>
                </a:solidFill>
                <a:latin typeface="Arial"/>
                <a:ea typeface="Arial"/>
              </a:rPr>
              <a:t>θ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  <a:ea typeface="Arial"/>
              </a:rPr>
              <a:t>23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  <a:ea typeface="Arial"/>
              </a:rPr>
              <a:t> ambig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3716280"/>
            <a:ext cx="0" cy="1584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530064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371628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22100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900000" y="184464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5573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urope ab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&amp; PDAC [1/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84360" y="1484280"/>
          <a:ext cx="7364160" cy="4708440"/>
        </p:xfrm>
        <a:graphic>
          <a:graphicData uri="http://schemas.openxmlformats.org/drawingml/2006/table">
            <a:tbl>
              <a:tblPr/>
              <a:tblGrid>
                <a:gridCol w="3447720"/>
                <a:gridCol w="1974960"/>
                <a:gridCol w="194148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on 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inetic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current during the pu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(30 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an beam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 (0.76 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ty cycle during the pu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(5/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transverse emit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m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inal rms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 M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2" name=""/>
          <p:cNvSpPr/>
          <p:nvPr/>
        </p:nvSpPr>
        <p:spPr>
          <a:xfrm>
            <a:off x="918000" y="914400"/>
            <a:ext cx="297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SPL (CDR2)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5280" y="638172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Extrapolation from PDAC based on the SPL CDR-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457200" y="1828800"/>
          <a:ext cx="7966080" cy="4581360"/>
        </p:xfrm>
        <a:graphic>
          <a:graphicData uri="http://schemas.openxmlformats.org/drawingml/2006/table">
            <a:tbl>
              <a:tblPr/>
              <a:tblGrid>
                <a:gridCol w="3728880"/>
                <a:gridCol w="2136960"/>
                <a:gridCol w="210024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beam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inetic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lse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 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bunches (bucke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 (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protons per pulse (per bunc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43 E14 (2.1 E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turns for inj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normalized transverse emit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m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ngitudinal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&amp; PDAC [3/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17640" y="914400"/>
            <a:ext cx="3867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SPL (CDR2) + PDAC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280" y="645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7280" y="274680"/>
            <a:ext cx="3097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nac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447920" y="3429000"/>
          <a:ext cx="5486400" cy="2679840"/>
        </p:xfrm>
        <a:graphic>
          <a:graphicData uri="http://schemas.openxmlformats.org/drawingml/2006/table">
            <a:tbl>
              <a:tblPr/>
              <a:tblGrid>
                <a:gridCol w="3657600"/>
                <a:gridCol w="1015920"/>
                <a:gridCol w="812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n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tic en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current during the pu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rticles per pu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2843280" y="2924280"/>
            <a:ext cx="2590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AC4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00000" y="1052640"/>
            <a:ext cx="7543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cation: PS South Hall and ex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chnical Design report in preparation (publication mid-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ssible plan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thorization: Decemb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struction: 2007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-up &amp; commissioning: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vailability for physics (replacing Linac2):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5280" y="630864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86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MeV test place (Linac4 front-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80880" y="1752480"/>
            <a:ext cx="8381880" cy="4335120"/>
            <a:chOff x="380880" y="1752480"/>
            <a:chExt cx="8381880" cy="4335120"/>
          </a:xfrm>
        </p:grpSpPr>
        <p:pic>
          <p:nvPicPr>
            <p:cNvPr id="606" name="" descr=""/>
            <p:cNvPicPr/>
            <p:nvPr/>
          </p:nvPicPr>
          <p:blipFill>
            <a:blip r:embed="rId1"/>
            <a:srcRect l="19034" t="17343" r="3192" b="0"/>
            <a:stretch/>
          </p:blipFill>
          <p:spPr>
            <a:xfrm>
              <a:off x="380880" y="1752480"/>
              <a:ext cx="8381880" cy="43351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607" name=""/>
            <p:cNvSpPr/>
            <p:nvPr/>
          </p:nvSpPr>
          <p:spPr>
            <a:xfrm>
              <a:off x="7163640" y="2661840"/>
              <a:ext cx="10339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H-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57400" y="2661840"/>
              <a:ext cx="105840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PHI RF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39640" y="3773520"/>
              <a:ext cx="1012680" cy="580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hop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8080" y="2661840"/>
              <a:ext cx="189216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easurement 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80520" y="4380120"/>
              <a:ext cx="14533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EP Klys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762120" y="8380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going project supported by HIPPI (FP6) + IPHI (CEA+IN2P3+C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cation: PS South Hall extension  (future location in Linac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 with beam : 2007-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280" y="638172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468360" y="257040"/>
            <a:ext cx="8675640" cy="670572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179280" y="6308640"/>
            <a:ext cx="262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Zisman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C: A monochromatic neutrino b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2057400" y="4267080"/>
            <a:ext cx="4800600" cy="188928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276720" cy="22924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200400" cy="224136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50920" y="6237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Lindroos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ly stripped ions: The loss due to stripping smaller than 5% per minute in the decay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to produce 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1 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 atoms/second (1+) with 50 microAmps proton beam with existing technology (TRIU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n annual rate of 10</a:t>
            </a:r>
            <a:r>
              <a:rPr b="0" lang="en-US" sz="2400" spc="-1" strike="noStrike" baseline="30000">
                <a:solidFill>
                  <a:srgbClr val="0099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decays along one straight section seems as a realistic target value for a desig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eyond EURISOL DS: Who will do the 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150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y the best isot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50920" y="6237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Lindroos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mitters 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1066680" y="1631880"/>
          <a:ext cx="7086600" cy="51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31880"/>
                    <a:ext cx="70866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mitters 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143000" y="838080"/>
          <a:ext cx="6781680" cy="55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6781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2" name=""/>
          <p:cNvSpPr/>
          <p:nvPr/>
        </p:nvSpPr>
        <p:spPr>
          <a:xfrm>
            <a:off x="7213680" y="6350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835280" y="3333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ome personal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95280" y="974880"/>
            <a:ext cx="799164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aim in the coming years: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P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sign 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 is absent from first round of superb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Europe regain strong position for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ou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think 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f we are able to start between 2015 and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+betabeams superior to T2K phase2 and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fore ( if we stick to “baseline” scenario ) so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 can attract a worldwide collab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etector and beams wait for the other to take first ste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hing will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lternative is to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ki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cond round and prepare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 (neutrino factory or higher energy b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personally find this risky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We should try to find again a consensual road map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24000" y="1052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4000" y="1557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4000" y="1989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95280" y="5157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5373720"/>
            <a:ext cx="2808360" cy="405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op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km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0.5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62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ff"/>
                </a:solidFill>
                <a:latin typeface="Arial"/>
              </a:rPr>
              <a:t>(Initial desig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187280" y="1413000"/>
            <a:ext cx="712980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755280" y="530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611280" y="38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684000" y="2421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79640" y="5950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995640" y="5950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8672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8850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87280" y="692280"/>
            <a:ext cx="71298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124000" y="907920"/>
            <a:ext cx="532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LUDED BY CHO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5280" y="508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4000" y="36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400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765000"/>
            <a:ext cx="1116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27640" y="6381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76364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0836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508720" y="630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667640" y="630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35280" y="2708280"/>
            <a:ext cx="2160360" cy="1225440"/>
          </a:xfrm>
          <a:custGeom>
            <a:avLst/>
            <a:gdLst/>
            <a:ahLst/>
            <a:rect l="l" t="t" r="r" b="b"/>
            <a:pathLst>
              <a:path w="1361" h="772">
                <a:moveTo>
                  <a:pt x="0" y="0"/>
                </a:moveTo>
                <a:cubicBezTo>
                  <a:pt x="113" y="185"/>
                  <a:pt x="227" y="370"/>
                  <a:pt x="454" y="499"/>
                </a:cubicBezTo>
                <a:cubicBezTo>
                  <a:pt x="681" y="628"/>
                  <a:pt x="1210" y="727"/>
                  <a:pt x="1361" y="772"/>
                </a:cubicBezTo>
              </a:path>
            </a:pathLst>
          </a:custGeom>
          <a:noFill/>
          <a:ln w="763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95640" y="4149720"/>
            <a:ext cx="1440000" cy="647640"/>
          </a:xfrm>
          <a:custGeom>
            <a:avLst/>
            <a:gdLst/>
            <a:ahLst/>
            <a:rect l="l" t="t" r="r" b="b"/>
            <a:pathLst>
              <a:path w="907" h="408">
                <a:moveTo>
                  <a:pt x="0" y="0"/>
                </a:moveTo>
                <a:cubicBezTo>
                  <a:pt x="83" y="102"/>
                  <a:pt x="166" y="204"/>
                  <a:pt x="317" y="272"/>
                </a:cubicBezTo>
                <a:cubicBezTo>
                  <a:pt x="468" y="340"/>
                  <a:pt x="816" y="385"/>
                  <a:pt x="907" y="4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04000" y="4724280"/>
            <a:ext cx="1513080" cy="720720"/>
          </a:xfrm>
          <a:custGeom>
            <a:avLst/>
            <a:gdLst/>
            <a:ahLst/>
            <a:rect l="l" t="t" r="r" b="b"/>
            <a:pathLst>
              <a:path w="907" h="408">
                <a:moveTo>
                  <a:pt x="0" y="0"/>
                </a:moveTo>
                <a:cubicBezTo>
                  <a:pt x="83" y="102"/>
                  <a:pt x="167" y="204"/>
                  <a:pt x="318" y="272"/>
                </a:cubicBezTo>
                <a:cubicBezTo>
                  <a:pt x="469" y="340"/>
                  <a:pt x="809" y="385"/>
                  <a:pt x="907" y="40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56360" y="4941720"/>
            <a:ext cx="2016000" cy="505080"/>
          </a:xfrm>
          <a:custGeom>
            <a:avLst/>
            <a:gdLst/>
            <a:ahLst/>
            <a:rect l="l" t="t" r="r" b="b"/>
            <a:pathLst>
              <a:path w="1270" h="318">
                <a:moveTo>
                  <a:pt x="0" y="0"/>
                </a:moveTo>
                <a:cubicBezTo>
                  <a:pt x="53" y="64"/>
                  <a:pt x="106" y="129"/>
                  <a:pt x="318" y="182"/>
                </a:cubicBezTo>
                <a:cubicBezTo>
                  <a:pt x="530" y="235"/>
                  <a:pt x="1111" y="295"/>
                  <a:pt x="1270" y="318"/>
                </a:cubicBezTo>
              </a:path>
            </a:pathLst>
          </a:custGeom>
          <a:noFill/>
          <a:ln w="7632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227640" y="5229360"/>
            <a:ext cx="1729080" cy="360360"/>
          </a:xfrm>
          <a:custGeom>
            <a:avLst/>
            <a:gdLst/>
            <a:ahLst/>
            <a:rect l="l" t="t" r="r" b="b"/>
            <a:pathLst>
              <a:path w="1089" h="227">
                <a:moveTo>
                  <a:pt x="0" y="0"/>
                </a:moveTo>
                <a:cubicBezTo>
                  <a:pt x="23" y="49"/>
                  <a:pt x="46" y="98"/>
                  <a:pt x="227" y="136"/>
                </a:cubicBezTo>
                <a:cubicBezTo>
                  <a:pt x="408" y="174"/>
                  <a:pt x="945" y="212"/>
                  <a:pt x="1089" y="227"/>
                </a:cubicBezTo>
              </a:path>
            </a:pathLst>
          </a:custGeom>
          <a:noFill/>
          <a:ln w="763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411280" y="2708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Minos, Icarus, Opera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Double Choo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140360" y="414972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2K1, N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08720" y="443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651640" y="530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80360" y="486900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2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mination vs. Smea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267080" cy="409104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186440" cy="41068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750600" y="536724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795280" y="54100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e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0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ff"/>
                </a:solidFill>
                <a:latin typeface="Arial"/>
              </a:rPr>
              <a:t>PMT size &lt;=&gt; co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met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20“     &lt;=&gt;    12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ed area      1660                    615    c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E(typ)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20                      24  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60                      70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SxQExCE              1                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3789360"/>
            <a:ext cx="799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                       2500                   800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8360" y="4292640"/>
            <a:ext cx="8675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Cost/</a:t>
            </a:r>
            <a:r>
              <a:rPr b="0" i="1" lang="de-DE" sz="2400" spc="-1" strike="noStrike">
                <a:solidFill>
                  <a:srgbClr val="cc00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 per useful PE</a:t>
            </a:r>
            <a:r>
              <a:rPr b="0" i="1" lang="de-DE" sz="2400" spc="-1" strike="noStrike" baseline="-25000">
                <a:solidFill>
                  <a:srgbClr val="cc0000"/>
                </a:solidFill>
                <a:latin typeface="Arial"/>
              </a:rPr>
              <a:t>U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= 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ost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/(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xQEx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de-DE" sz="2400" spc="-1" strike="noStrike">
                <a:solidFill>
                  <a:srgbClr val="cc0000"/>
                </a:solidFill>
                <a:latin typeface="Arial"/>
              </a:rPr>
              <a:t>12.6                      7.7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€                       </a:t>
            </a:r>
            <a:r>
              <a:rPr b="0" lang="de-DE" sz="2400" spc="-1" strike="noStrike">
                <a:solidFill>
                  <a:srgbClr val="0000ff"/>
                </a:solidFill>
                <a:latin typeface=""/>
              </a:rPr>
              <a:t>→   1 20-inch PMT replaced by 2 12-inch PMTs :                .   </a:t>
            </a:r>
            <a:r>
              <a:rPr b="1" lang="de-DE" sz="2000" spc="-1" strike="noStrike">
                <a:solidFill>
                  <a:srgbClr val="0000ff"/>
                </a:solidFill>
                <a:latin typeface=""/>
              </a:rPr>
              <a:t>same number of PE, better SE, better timing, better granularity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"/>
              </a:rPr>
              <a:t>         </a:t>
            </a:r>
            <a:r>
              <a:rPr b="0" lang="de-DE" sz="2400" spc="-1" strike="noStrike">
                <a:solidFill>
                  <a:srgbClr val="cc0000"/>
                </a:solidFill>
                <a:latin typeface=""/>
              </a:rPr>
              <a:t>Saving (</a:t>
            </a:r>
            <a:r>
              <a:rPr b="0" lang="de-DE" sz="1800" spc="-1" strike="noStrike">
                <a:solidFill>
                  <a:srgbClr val="cc0000"/>
                </a:solidFill>
                <a:latin typeface="Arial"/>
              </a:rPr>
              <a:t>per 20-inch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cc0000"/>
                </a:solidFill>
                <a:latin typeface=""/>
              </a:rPr>
              <a:t>= 900 </a:t>
            </a:r>
            <a:r>
              <a:rPr b="0" lang="de-DE" sz="1800" spc="-1" strike="noStrike">
                <a:solidFill>
                  <a:srgbClr val="cc0000"/>
                </a:solidFill>
                <a:latin typeface="Arial"/>
              </a:rPr>
              <a:t>€  </a:t>
            </a:r>
            <a:r>
              <a:rPr b="0" lang="de-DE" sz="32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 electronics extra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4000" y="6481800"/>
            <a:ext cx="25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 Photonis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"/>
              </a:rPr>
              <a:t>New pump capacity nee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43120" y="1295280"/>
            <a:ext cx="778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livery over 6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00 working days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11280" y="2637000"/>
            <a:ext cx="8281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20“ tube</a:t>
            </a: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200,000/6/300 =&gt; 112 good tubes / yield 0.7 = 160 starts/day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1 start/pump/day) =&gt;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60 pumps ( € 30M or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12“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400,000/6/300 =&gt; 222 good tubes / yield 0.7 = 320 starts/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A multi-array computerised pump at Photonis handles 20 starts/day  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=&gt;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6 pumps   ( € 5M or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24000" y="6308640"/>
            <a:ext cx="25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 Photonis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144360"/>
            <a:ext cx="8351640" cy="66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8748720" cy="672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59280" y="5229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eptember 200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914400"/>
            <a:ext cx="8534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L main goa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the performance of the CERN high energy accelerators (PS, SPS &amp; LH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the needs of future experiments with neutrinos and radio-active ion b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09480" y="2057400"/>
            <a:ext cx="8229600" cy="3505320"/>
            <a:chOff x="609480" y="2057400"/>
            <a:chExt cx="8229600" cy="35053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609480" y="2057400"/>
              <a:ext cx="822960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09480" y="4876920"/>
              <a:ext cx="44197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09480" y="5486400"/>
            <a:ext cx="80773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resent R&amp;D programme concentrates on low-energy (Linac4) items, wherever possible in collaboration with other laborato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curren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4797360"/>
            <a:ext cx="1225440" cy="45972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623736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R.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08:09:34Z</dcterms:created>
  <dc:creator>jbouchez</dc:creator>
  <dc:description/>
  <dc:language>en-US</dc:language>
  <cp:lastModifiedBy>jbouchez</cp:lastModifiedBy>
  <dcterms:modified xsi:type="dcterms:W3CDTF">2005-10-18T08:42:52Z</dcterms:modified>
  <cp:revision>34</cp:revision>
  <dc:subject/>
  <dc:title>What we know and what we want to know</dc:title>
</cp:coreProperties>
</file>